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AC9D7-57B5-4377-9D18-98881EB8B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890D-C1A3-4D7E-8D12-62D6B21A2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1EB-B976-4937-B75D-75C9838CD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1BF6-C314-43B9-942E-D04DE28CC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F801-AC20-445D-AE1D-E61267F88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C1EE6-76AF-4F2C-AB96-973CBDCD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4DC2-5BB8-435C-B4A0-5673B12E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0D20-6F28-46D9-944A-774AD27C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F75C-11A5-46D8-8B59-691AE272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1162C-1B9A-4AEB-9C66-DEBAAE5A6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F576-AE64-4EE6-A672-D48B8D62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5F02-C993-4B4F-9F8A-DC471513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9309-894F-4651-A632-FE851C84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CC7DC-5317-47EE-9A65-7A10C64D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5E14-974C-4F4C-A769-57FF1D8F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43CC4-3E7E-40CE-BD77-4E4D71E9B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A514-E7BB-421A-8E4B-5303E66AA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F17DBA-B46E-4951-BCE4-735AAD15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BEEED-E702-4F4B-971A-344C7F5C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2E003-C691-4DF0-92B7-0ABE2D3D4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A93C37-64F7-4B00-8E30-3224BA9FB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263E-FC82-4BB9-A99A-DBE05E35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5C2-CFF9-40BD-AA32-C65D28C84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25211-9D26-4745-AF21-8F694D3F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C4CD3-2C7B-409F-A870-49A8C4C1D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9407C-B235-401A-8DE1-2CF95CEA0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66511-19DA-408A-8957-CA295C418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52432-9E9B-410A-A80C-F0EBEDCEC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A5C92B-35BE-4F31-B3EE-8A6C153E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E0903-6A1F-4D88-8F3A-9D8BAEFD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9D8B1F-2E93-4067-9B61-77C9CE64A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3E3AC-A493-47DE-B503-A7AC959A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C37FE7-DF52-4826-B0A1-12368B672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DC46-A530-460E-AC61-C644A1191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36C93-A656-4933-BA55-D9D726AA6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9DEEA-637A-4090-8179-1FFD1CACE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8DE1F5-8385-4A02-9C61-588FA725B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23D726-596C-428D-9086-7C41F935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0F2049-F6FB-4FA0-94E8-AABDC8EC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629D0-CBFB-481C-9F24-E8180A45B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6ACE2-5975-43D7-B8FD-FE59FAC83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247B8C-7D00-4AE8-BD33-0F4A08DD1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4CE2E-CF7C-4DA9-BB48-01D78757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11DDEC-249A-40D8-A4E1-62E5ABD23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280C-E69B-4104-B202-B5D687B3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5EC46-BA4F-4CE7-813C-068275F0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059D4-82C5-48E8-9F88-D3C78C91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FA3511-0D7D-400A-AB02-DC76E989C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98C366-8048-4F31-A213-6DABAEF8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F3C5D4-7153-45B8-A558-4BB4E21C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BE2F52-3E7F-42DB-AD39-3F10A257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5B6F-E660-4F54-A958-D554C464F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60860F-EE79-4C02-B186-6C65E60E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E81DC-7DC0-4922-BE31-EAB2E3EBE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3722FB-9A8F-4612-BFA4-505BEF083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13F7-77A0-4DD0-8410-5C02915C4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C11A2-91F3-4CFA-9EC4-8027BACD6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E7BF1-E19F-460B-90A4-380BF430B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4168F-0F69-4831-BFBE-ECB19AB5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464E29-05C3-46A9-979C-8E18E035F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5A6B0-6706-4C3B-A939-09B940D56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92BE8-6C35-42FF-AC12-2B67A064D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6282D5-3CF6-48F0-8973-B9095A40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ECADDE-12D8-4943-A915-1687E3BA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DF7B6-F1B2-4B40-A46B-B8C9673CC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37356B-9341-4067-8115-F88D742D2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1AB5-2204-4316-9D12-995B37024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128B26-C236-424C-8B8C-6070243C8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8D1E7-A364-49D1-801E-DDE23011E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BC16A8-4418-40AA-8FD7-83AE323E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FB055-DA21-40AB-876A-3422A1E2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CFCFA-1AE6-4A96-805E-40B9E9CE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1B9A0-89F3-4E46-9096-97B1F991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0DFB40-D08C-4F0A-862F-784BD5407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E3FC73-36B1-4251-B587-1C2EEA65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31934-DCA1-4FEF-BCEE-513FC428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D879DA-4B0B-4C07-882E-0BD0D1B3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8E5D-D440-4654-BC77-15AA3CA90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78BF8C-DE6A-4522-B164-B68EA2FC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4EA6B8-0E33-4812-AFC7-5FB6ADF7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74A28-FE0E-4207-86C1-60B3FF45E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C18D43-3484-4798-AFAD-7718A96FD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7012BA-BAD0-4083-AD83-84420136F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0AF6-CCDA-4935-89BF-1773ACC3F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35AB-D5A3-43AC-B622-DAB703E27738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93740-4BAF-48FA-AD6C-D6774C15A0B9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8A22-7EC2-4785-9C95-1ED399778DB7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5008D-78B6-4E22-8C28-EFD3057D503E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CB1FD-B934-4E67-8427-7B7AFB0527D7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C532B-0E8B-43B5-8306-558FB8AFFD65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47AC-46A6-40EC-85E1-A962CBB19C93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Repaso del semestre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Translate the following sentence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I normally get up at 6:30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Normalmente me levanto a las seis y medi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240" y="15998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Translate the following sentenc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We go to bed earl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Nos acostamos tempran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** I can correctly form the reflexive verb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Translate the following sent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He falls asleep easi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Él se duerme fácilm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hat is the name of verbs that stem-change 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w do these verbs change? Pedir, servir, deci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oot verbs, e - 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ierto o F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Ciento’ is used for numbers greater than 10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C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57a"/>
                </a:solidFill>
                <a:latin typeface="Arial"/>
              </a:rPr>
              <a:t>How do verbs ending in –CAR, -GAR, &amp; -ZAR change in the ‘yo’ form of the preteri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C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G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Z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2133720" y="328608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Q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  <a:ea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5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formula do you use for affirmative tú commands? &amp; for negative command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Affirmative - He/she 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Negative - yo -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Ø</a:t>
            </a: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 opposite tú for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2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They like tac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(A ellos les gust</a:t>
            </a:r>
            <a:r>
              <a:rPr b="1" lang="es-ES_tradnl" sz="4000" spc="-1" strike="noStrike" u="sng">
                <a:solidFill>
                  <a:srgbClr val="7fd13b"/>
                </a:solidFill>
                <a:uFillTx/>
                <a:latin typeface="Arial"/>
              </a:rPr>
              <a:t>a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 los tac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How is the present progressive formed in Spanis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What verb? ___________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______ for –ar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3600" spc="-1" strike="noStrike">
                <a:solidFill>
                  <a:srgbClr val="7030a0"/>
                </a:solidFill>
                <a:latin typeface="Arial"/>
              </a:rPr>
              <a:t>&amp; _______ for – er/-ir ver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star 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- ando &amp; -ien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3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My mother should move the furnitur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Mi madre debe mover los mueb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Las Regl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2 teams / 1 scorek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Everyone writes every answer f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If it is your teams turn, stand if you know the answer. If you are called on and answer correctly, your team gets 1 pt. for each person sta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You can “bluff” and earn pts. for your team even if you don´t know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Most points – W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If you are called on and answer incorrectly, the points go to the oth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Find the three mistakes in the sen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La año pasado yo buscé mi zapatos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año pasado yo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usqué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ff0000"/>
                </a:solidFill>
                <a:latin typeface="Arial"/>
              </a:rPr>
              <a:t>mis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zapatos 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0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0" descr=""/>
          <p:cNvPicPr/>
          <p:nvPr/>
        </p:nvPicPr>
        <p:blipFill>
          <a:blip r:embed="rId1"/>
          <a:stretch/>
        </p:blipFill>
        <p:spPr>
          <a:xfrm>
            <a:off x="523800" y="3322800"/>
            <a:ext cx="4876920" cy="203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blackh.DCSD.004\AppData\Local\Microsoft\Windows\Temporary Internet Files\Content.IE5\2N2CEY12\MP900446558[1].jpg"/>
          <p:cNvPicPr/>
          <p:nvPr/>
        </p:nvPicPr>
        <p:blipFill>
          <a:blip r:embed="rId2"/>
          <a:stretch/>
        </p:blipFill>
        <p:spPr>
          <a:xfrm>
            <a:off x="4876920" y="2050920"/>
            <a:ext cx="2952720" cy="382284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3"/>
          <a:stretch/>
        </p:blipFill>
        <p:spPr>
          <a:xfrm>
            <a:off x="1384200" y="4091040"/>
            <a:ext cx="5815080" cy="160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Straight Arrow Connector 5" descr=""/>
          <p:cNvPicPr/>
          <p:nvPr/>
        </p:nvPicPr>
        <p:blipFill>
          <a:blip r:embed="rId1"/>
          <a:stretch/>
        </p:blipFill>
        <p:spPr>
          <a:xfrm>
            <a:off x="1908000" y="4029120"/>
            <a:ext cx="4065840" cy="202392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2"/>
          <a:stretch/>
        </p:blipFill>
        <p:spPr>
          <a:xfrm>
            <a:off x="1305000" y="3425760"/>
            <a:ext cx="3840120" cy="2005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blackh.DCSD.004\AppData\Local\Microsoft\Windows\Temporary Internet Files\Content.IE5\0L7AYIOW\MP900314315[1].jpg"/>
          <p:cNvPicPr/>
          <p:nvPr/>
        </p:nvPicPr>
        <p:blipFill>
          <a:blip r:embed="rId3"/>
          <a:stretch/>
        </p:blipFill>
        <p:spPr>
          <a:xfrm>
            <a:off x="5745240" y="2155680"/>
            <a:ext cx="2347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Straight Arrow Connector 5" descr=""/>
          <p:cNvPicPr/>
          <p:nvPr/>
        </p:nvPicPr>
        <p:blipFill>
          <a:blip r:embed="rId1"/>
          <a:stretch/>
        </p:blipFill>
        <p:spPr>
          <a:xfrm>
            <a:off x="1158840" y="4376880"/>
            <a:ext cx="3687840" cy="117000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3767040"/>
            <a:ext cx="4035600" cy="1420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blackh.DCSD.004\AppData\Local\Microsoft\Windows\Temporary Internet Files\Content.IE5\BG1OMNQG\MC900250839[1].wmf"/>
          <p:cNvPicPr/>
          <p:nvPr/>
        </p:nvPicPr>
        <p:blipFill>
          <a:blip r:embed="rId3"/>
          <a:stretch/>
        </p:blipFill>
        <p:spPr>
          <a:xfrm>
            <a:off x="3962520" y="2627280"/>
            <a:ext cx="3965400" cy="2997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What do these three word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toall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despertado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ma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4297320" y="2901960"/>
            <a:ext cx="4749840" cy="2614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blackh.DCSD.004\AppData\Local\Microsoft\Windows\Temporary Internet Files\Content.IE5\0L7AYIOW\MC900445692[1].wmf"/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Conjugate the verb </a:t>
            </a: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comer </a:t>
            </a: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in the preterit (past) tens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04920" y="3429000"/>
          <a:ext cx="8458200" cy="21034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í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ste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ieron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xplain the difference between these two seten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estoy lavand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an you sing the irregular affirmative commands tú song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Di haz ve pon sal sé ten v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an you sing the irregular negative commands tú so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Des, estés, vayas, sepas, seas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1676520"/>
          <a:ext cx="6477120" cy="44193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regular preterit –AR verb end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05120" y="3809880"/>
          <a:ext cx="5105160" cy="201132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4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uatrocientos veinte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is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stove, oven, dishwash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La estufa, el horno, el lavaplato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Yesterday I bought two on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Ayer yo compré dos cebol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Find the </a:t>
            </a: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three</a:t>
            </a: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 mistakes in the following set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Ellos limpiasteis el cocina anteayer y limpiaron la mesa tambéi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llo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limpiaron la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cocina anteayer y limpiaron la mesa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ambié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does the following  mean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¡La semana pasada tú cocinaste un almuerzo gra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Last week you cooked a big lunc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14:33Z</dcterms:created>
  <dc:creator>Heather Heffernen</dc:creator>
  <dc:description/>
  <dc:language>en-US</dc:language>
  <cp:lastModifiedBy>Prine, Stephanie</cp:lastModifiedBy>
  <dcterms:modified xsi:type="dcterms:W3CDTF">2014-01-10T17:06:02Z</dcterms:modified>
  <cp:revision>51</cp:revision>
  <dc:subject/>
  <dc:title>Bluff</dc:title>
</cp:coreProperties>
</file>